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53C-10EA-4E69-9A80-D77BAB36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CCD-3140-4608-ABBA-1495BF85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068-C4D5-401B-A761-8167648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18F-92C0-4883-84AE-598C801E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9EF18-8430-4843-A5D8-1A26FB67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81605-59E4-4386-973F-C80E0870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3E70-3838-4639-BAB7-8C8005DC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95B2-FD83-4022-8E77-0BAAE961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EA96E-D521-43AE-BF89-AD863BFF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254BA-3524-4613-8AAA-6182041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E7664-F45A-4F29-B1B3-F9E5839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422-FF12-4F08-AD95-212051D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965EE-AC67-4A9E-8012-0E305C37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C7F8A-09E9-4078-8566-D7D83F64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C430-6289-4BC4-98AB-66F2499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F4C4-2EE9-4870-973E-568BFC19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AB1A-0407-455D-8059-0D4F444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438-FA6F-4DA1-BD0D-308ED91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147-D2E6-4870-B005-2A64372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498-A485-4B91-A9CC-18D3241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5B3-2432-4AB5-B23F-6FF64FA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A17-678A-4853-BD1C-3BAE7B91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764-38F4-4A3B-97EB-767107D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5E6-FFAF-4D8D-A1E4-04FCE29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883-7500-4606-9E9D-E07DDB41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A17-451D-473C-AB40-95E53E935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cision Making and Commi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IGHING THE PROS AND C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ECTING THE BEST OP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LLOWING THROUG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rainstorming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a list of ideas without judging th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-evaluat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-think, change your mind, chose ag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itmen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an agreement and following through with 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9:09Z</dcterms:modified>
  <cp:revision>18</cp:revision>
  <dc:subject/>
  <dc:title>Project TND  (Project Towards No Drug Abuse)</dc:title>
</cp:coreProperties>
</file>